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1B7-93B1-4252-AFB1-ACADBA31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37A-0C4A-4FDF-A983-21C0F2D0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E45-BD36-4F8E-A50E-113F8C2E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683-DB59-4536-A1E7-AFCE86C8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8A9-3528-469E-8A26-B51DD76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D1D-656A-41A8-9978-058FE8F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78C-C22D-4622-A327-61E0E7CB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749-32BC-42CA-AA81-9E80335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7B9-C6E3-44F5-A79C-C23C5D06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7ED-D44C-495D-ABBA-001A5C9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8AC-4CD8-4AEB-BFC8-94E40D9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0F6-B820-4922-AE27-8C1C10F7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16F-9258-4DDD-84C6-10A62EC1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uracandler.com/mmf/MasteringMathFactsMDSample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tacnews.vcu.edu/2012/02/developing-math-fact-fluency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-5mathteachingresources.com/3rd-grade-number-activities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 fl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 fluency, we mean knowing a math fact with automaticity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?-- is often the ques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ast Math by Scholastic, students should know it within .8 of a second.  I have read elsewhere that 3 seconds is recommended by Common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students know their sight words without thinking about them...that is how we want students to know their math facts. 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fact fluen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uracandler.com/mmf/MasteringMathFactsMDSampl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nowing facts fluently, students free up their working memory to work on more difficult step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than recreating 8 x 6 in their mind and using a strategy every single time they see this fact, students must have fact fl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act fluency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to fact fluency is having a strong conceptual understanding of the fact strategies (doubles, doubles + 1, using combinations of 10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xpected of my chil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Required Fluency Expectations According to Common Co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Add and subtract within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Add and subtract within 20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monstrating fluency for addition and subtraction within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 and subtract within 20 using mental strategies. By end of Grade 2, know from memory all sum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 using strategie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Multiply and divide within 100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the end of Grade 3, know from memory all product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0 using strategies and algorithm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Add and subtract multi-digit whol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 Multiply multi-digit whole numbe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I do to help my child become a more fluent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facts with your child in a variety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r child set a goal and help your child reach that goal; set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competitions and celeb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facts in frequently visited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earning the fact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kip counting/use a hundred’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tacnews.vcu.edu/2012/02/developing-math-fact-fluenc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resources to help my child with fact flu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-5mathteachingresources.com/3rd-grade-number-activiti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s://sites.google.com/site/bestnextcommoncoremath/xtra-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://www.k-5mathteachingresour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ebsites where kids ca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magici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ultiplicati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wi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-2mathapps.blogspot.com/p/fact-fluency-practi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9:34:16Z</dcterms:created>
  <dc:creator>Kids</dc:creator>
  <dc:description/>
  <dc:language>en-US</dc:language>
  <cp:lastModifiedBy>Ira Hyde</cp:lastModifiedBy>
  <dcterms:modified xsi:type="dcterms:W3CDTF">2013-11-15T13:25:01Z</dcterms:modified>
  <cp:revision>19</cp:revision>
  <dc:subject/>
  <dc:title>Fact Fluency</dc:title>
</cp:coreProperties>
</file>