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F67-C43F-49BE-A672-83EC4176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136-699F-4F8A-BF1E-3749D05D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0EA-15C2-4B08-BEF7-42FB6365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A51-0399-4FD5-AE41-02CD90EC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707-6941-4CC3-A188-4B4097B8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951-2D56-4442-BD99-78F80FC3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1D7-1AA7-47E6-97D5-E18883EA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8F0-2048-4CB7-B501-FF7CFD97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37F-7124-4708-ACFF-C4AAE4A9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905-AC75-4D86-B0E7-DCE6BE0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18B-263C-47DE-9A0F-409A7605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565-906D-4666-8E92-714AA53F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B4E9-2CC3-4EFA-99C2-6F6F9381C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vcstar.com/media/img/photos/2009/10/29/mileycyrus_t607.jpg&amp;imgrefurl=http://www.vcstar.com/photos/2009/oct/29/78627/&amp;usg=__LqQ9Hnwv1tLSlulsF14H9f81HAs=&amp;h=912&amp;w=607&amp;sz=142&amp;hl=en&amp;start=331&amp;itbs=1&amp;tbnid=cZFPwszVe8qITM:&amp;tbnh=147&amp;tbnw=98&amp;prev=/images%3Fq%3Dmiley%2Bcyrus%2Bdisdney%26gbv%3D2%26ndsp%3D20%26hl%3Den%26safe%3Dactive%26sa%3DN%26start%3D32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edia.vcstar.com/media/img/photos/2009/10/29/mileycyrus_t607.jpg" TargetMode="External"/><Relationship Id="rId2" Type="http://schemas.openxmlformats.org/officeDocument/2006/relationships/hyperlink" Target="http://www.statesymbolsusa.org/Tennessee/Bird_Mockingbird.html" TargetMode="External"/><Relationship Id="rId3" Type="http://schemas.openxmlformats.org/officeDocument/2006/relationships/hyperlink" Target="http://www.roadsideamerica.com/story/14405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te of Tennesse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“The Volunteer State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ngel Pu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61324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tol is known as the Birthplace of Country Mus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essee has more than 3,800 documented c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ore horses per capita in Shelby County than any other county in the United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ty of Murfreesboro lies in the exact geographical center of the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ennessee became a state in 1796, the total population was 77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bird of Tenne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ockingb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hoto of Northern Mockingbird"/>
          <p:cNvPicPr/>
          <p:nvPr/>
        </p:nvPicPr>
        <p:blipFill>
          <a:blip r:embed="rId1"/>
          <a:stretch/>
        </p:blipFill>
        <p:spPr>
          <a:xfrm>
            <a:off x="5977080" y="3429000"/>
            <a:ext cx="259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y Cy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born in Nashville, Tennessee and she is 16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752480"/>
            <a:ext cx="3200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ist At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Towing and Recovery Museum Chattanooga, Tennessee. The history of tow trucks, complete with many exhibits; a wall of the Fallen honors those who died in the line of du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nternational Towing and Recovery Museum"/>
          <p:cNvPicPr/>
          <p:nvPr/>
        </p:nvPicPr>
        <p:blipFill>
          <a:blip r:embed="rId1"/>
          <a:stretch/>
        </p:blipFill>
        <p:spPr>
          <a:xfrm>
            <a:off x="6019920" y="4721400"/>
            <a:ext cx="29145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dia.vcstar.com/media/img/photos/2009/10/29/mileycyrus_t607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atesymbolsusa.org/Tennessee/Bird_Mockingbird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adsideamerica.com/story/144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ap-of-usa.co.uk/images/tennessee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6:44:06Z</dcterms:created>
  <dc:creator> Computer Coordinator</dc:creator>
  <dc:description/>
  <dc:language>en-US</dc:language>
  <cp:lastModifiedBy> Computer Coordinator</cp:lastModifiedBy>
  <dcterms:modified xsi:type="dcterms:W3CDTF">2010-03-10T16:57:35Z</dcterms:modified>
  <cp:revision>6</cp:revision>
  <dc:subject/>
  <dc:title>Slide 1</dc:title>
</cp:coreProperties>
</file>