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EC59-8857-4062-B979-1F5CF9F1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6C5B-0294-4E71-937B-A298A0D5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DACE-6AD3-4BD0-BDAF-A900C550D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0E6E-E78F-416E-97E7-1B9A082E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BD82-38FA-4771-8A54-70421ED7A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D4C-87F6-4C54-9742-4AFFF2AD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4EA-97C5-4364-BB4A-2E008EEE5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C484-61E8-481D-9261-162E70C8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26AE-CB69-47CB-87C8-5F67D6E9C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E8B3-1B25-4FFF-93DE-05C45F2D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E66C-9B75-40D7-BEC7-C6C6938AC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6EE3-2196-4FC5-BCE6-A8D5A6AC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C0B-AB76-4742-BB97-87913A2EC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9485-E0C7-4C1D-879B-AB3655F86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9244-A1F5-4A36-81E5-2BBD1BFF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25F4-F7D5-43B3-A659-5C22546AA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0A13-9FCC-47DB-9658-B71F91A9F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F7F6-241E-45FB-A17E-F60F222A0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EAEE-379B-4D04-BB53-821A81C3C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5DCC-E0C1-46B2-A70C-3D78617D9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DF5-07F8-4EA4-9DFE-2F55606B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BE6-B994-4F38-90C3-3D559C75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DAB-FA83-40C1-A506-F16565E7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C2A-E028-4636-9450-923B9E0A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366-DDCF-43F4-AA09-39517DEE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48B5-B980-4E3E-AA36-4DE635E5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8817-B70D-421C-AEA8-601608FF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7148-6EED-4A15-A9E1-3E52F728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5FAF-990E-4A8A-B83B-B860F16A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6C35-4DBA-4DE8-84F7-5F0E0841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63B7-4F31-445F-B95E-64B9ABBB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6B4D-4DC0-4A1A-8C9B-04118C22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35D-6228-4BDA-B76A-3C37975C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6C38-B4EE-44C8-AF81-7FBAC312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F40B-E0A8-4A5E-9C6D-4B1197D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C59C-1157-49D8-95DD-B2D1CB6A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EF79-929D-4C8B-91F8-A1F838B9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D0D1-C784-4F5A-82B0-86FFC0DE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543-01B5-4875-88D4-C83717EB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EEE-A195-472F-AA8D-23285F0F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CD9-44AC-41F1-869F-E655D52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618-4AC4-4FCA-BFA8-16F2B83C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C68-0694-4E9B-A7D2-4BB8EE69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754-0C76-423E-8F21-64C50C0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0F4-364B-4377-A483-8F6B3DB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00F-E4BE-4C51-A3BD-8096EB04D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74F7-78E3-472F-87E5-88D44320D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452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Registration for 2014-2015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s, AP, NCVPS Online, &amp; HCC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to take the AP exam @ a cost of $89 per exam (could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-level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students for rigor of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t. class for G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rn college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should take AP Clas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meet the prerequi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excellent time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are self-motivated and indepen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mmitment to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understand the work will be more rigorous and involve more out of class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900434409[1]"/>
          <p:cNvPicPr/>
          <p:nvPr/>
        </p:nvPicPr>
        <p:blipFill>
          <a:blip r:embed="rId1"/>
          <a:stretch/>
        </p:blipFill>
        <p:spPr>
          <a:xfrm>
            <a:off x="6629400" y="510552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is taken with a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Online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taken online with a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Face-to-face COUR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et prerequisites of each course (see the course commitm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n AP prep elective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5 points) with AP cours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mester / 6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tential Face-to-face Cour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u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U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1980720"/>
            <a:ext cx="3810240" cy="3429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i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English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175280" y="151128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143000" y="5715000"/>
            <a:ext cx="7848720" cy="429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*An additional elective will be paired with each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NCVP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98108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5, on the recommendation of the North Carolina e-Learning Commission, the General Assembly established the North Carolina Virtual Public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orth Carolina Virtual Public School (NCVPS) is to provide e-learning opportunities to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ing legislation for NCVPS states: “NCVPS shall be available at no cost to all students in North Carolina who are enrolled in NC’s public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Things to Consid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urse offerings are only courses NOT taught at 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NCVPS courses will count as electiv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ust have a 3.0 or higher GPA to take an online class, plus additional requirements of NCVPS, and 2 teacher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AND COMMUNICATION IS COMPLETED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could be located anywhere across the state; will not be a Pisgah teacher, and there will not be a Pisgah teacher responsible for assisting these students.  There WILL be a site-based facilitator for tech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VPS’s grading periods do not match PHS – MUST MONITOR GRADES CAREFULLY!  Students (and parents) can do this on the NCVPS site with passw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1295280" y="10666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3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3627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Title 6"/>
          <p:cNvSpPr/>
          <p:nvPr/>
        </p:nvSpPr>
        <p:spPr>
          <a:xfrm>
            <a:off x="5148360" y="380880"/>
            <a:ext cx="362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n Honor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7356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 America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 Chine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ev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 I/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 Courses Offered ON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Europea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Government 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990720" y="56386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nline AP Courses are year-long and must be paired with another NCVPS AP course or two HCC courses (one per sem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Commitment 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turn to applicable teacher by Friday, Feb.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ng-up for course commits you to that course,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now numbers in order to determine the number of sections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mmits student(s) to class; if they pre-register and then change their mind, numbers and sections are unbalanced and other classes over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Introduction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Mills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i Lawing 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esa Heinz (P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rly In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S AP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II – Tabitha J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US History – Tiffany T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English IV – Shannon Ha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Calculus – Mary M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Biology – Greg T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bd00028_"/>
          <p:cNvPicPr/>
          <p:nvPr/>
        </p:nvPicPr>
        <p:blipFill>
          <a:blip r:embed="rId1"/>
          <a:stretch/>
        </p:blipFill>
        <p:spPr>
          <a:xfrm>
            <a:off x="2362320" y="1600200"/>
            <a:ext cx="4952880" cy="48513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1752480" y="990720"/>
            <a:ext cx="67057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HCC</a:t>
            </a:r>
            <a:br>
              <a:rPr sz="9600"/>
            </a:b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COURSE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do we mee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/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Deliver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Commitm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4186080"/>
            <a:ext cx="3200400" cy="309600"/>
          </a:xfrm>
          <a:prstGeom prst="rect">
            <a:avLst/>
          </a:prstGeom>
          <a:solidFill>
            <a:srgbClr val="5cad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2"/>
          <p:cNvSpPr/>
          <p:nvPr/>
        </p:nvSpPr>
        <p:spPr>
          <a:xfrm>
            <a:off x="4600440" y="41860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2"/>
          <p:cNvSpPr/>
          <p:nvPr/>
        </p:nvSpPr>
        <p:spPr>
          <a:xfrm>
            <a:off x="1378080" y="3538440"/>
            <a:ext cx="6395760" cy="304920"/>
          </a:xfrm>
          <a:prstGeom prst="rect">
            <a:avLst/>
          </a:prstGeom>
          <a:solidFill>
            <a:srgbClr val="a5b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Brace 8"/>
          <p:cNvSpPr/>
          <p:nvPr/>
        </p:nvSpPr>
        <p:spPr>
          <a:xfrm rot="5400000">
            <a:off x="4295520" y="144756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840 h 3200400"/>
              <a:gd name="textAreaBottom" fmla="*/ 318456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6236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Brace 11"/>
          <p:cNvSpPr/>
          <p:nvPr/>
        </p:nvSpPr>
        <p:spPr>
          <a:xfrm rot="5400000">
            <a:off x="4181400" y="3619440"/>
            <a:ext cx="838080" cy="32004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3200400"/>
              <a:gd name="textAreaBottom" fmla="*/ 31788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749760" y="20908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lray.HAYWOOD\Local Settings\Temporary Internet Files\Content.IE5\9XOAL1B9\MC900445568[1].wmf"/>
          <p:cNvPicPr/>
          <p:nvPr/>
        </p:nvPicPr>
        <p:blipFill>
          <a:blip r:embed="rId1"/>
          <a:stretch/>
        </p:blipFill>
        <p:spPr>
          <a:xfrm>
            <a:off x="676440" y="554040"/>
            <a:ext cx="2189160" cy="1890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2362320" y="593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ach AP Class, per teac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200400" y="1219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AP class takes 2 blocks: 1-per sem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Honors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Honors cour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t. class – G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igorous than standa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prerequisites and require teacher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ester long courses – 1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nors Courses Delivery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-to-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ght by 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course commitment form per subjec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VPS (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s taken online with non-PHS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urses not offered f-to-f at 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CVPS course commitm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Honors O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h to Broadway (see K. Med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III/IV – only taught as honors      (see C. De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C III/IV (see Commander Wea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 III/ IV – only taught as honors (see A. Stew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AP Course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18:41Z</dcterms:created>
  <dc:creator>COMPUTER COORDINATOR</dc:creator>
  <dc:description/>
  <dc:language>en-US</dc:language>
  <cp:lastModifiedBy>Sharon Case</cp:lastModifiedBy>
  <cp:lastPrinted>2014-02-17T21:29:09Z</cp:lastPrinted>
  <dcterms:modified xsi:type="dcterms:W3CDTF">2014-02-18T19:08:54Z</dcterms:modified>
  <cp:revision>47</cp:revision>
  <dc:subject/>
  <dc:title>Registration for 2010-2011</dc:title>
</cp:coreProperties>
</file>